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4CD-76CC-41BC-8AC2-3101914D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8BA-440C-47F0-BA5C-8EDD2F79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0F3-3970-44F1-9DAC-7AF2D5B0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F34-C5E0-4131-8365-24D534A2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2EC-03E5-40CF-8C82-7546652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8DF-C31E-488C-B5A1-4FF8AEA7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071-F529-440F-8ACA-D639275C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0F4-EF9B-41E4-B93A-54E4EC7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738-467A-43F1-AEE8-89536EE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412-B342-4A66-96E1-B691904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4D0-0BE8-423F-86D8-B0058E0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604-6610-4EAB-9147-D4B6BA5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BB3-8CC7-45C9-AB75-F8D0DCBB5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7621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6"/>
          <p:cNvSpPr/>
          <p:nvPr/>
        </p:nvSpPr>
        <p:spPr>
          <a:xfrm>
            <a:off x="228600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8"/>
          <p:cNvSpPr/>
          <p:nvPr/>
        </p:nvSpPr>
        <p:spPr>
          <a:xfrm flipV="1">
            <a:off x="2285280" y="17521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10"/>
          <p:cNvSpPr/>
          <p:nvPr/>
        </p:nvSpPr>
        <p:spPr>
          <a:xfrm>
            <a:off x="289548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2"/>
          <p:cNvSpPr/>
          <p:nvPr/>
        </p:nvSpPr>
        <p:spPr>
          <a:xfrm>
            <a:off x="4038480" y="17524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4"/>
          <p:cNvSpPr/>
          <p:nvPr/>
        </p:nvSpPr>
        <p:spPr>
          <a:xfrm flipH="1">
            <a:off x="4266720" y="2362320"/>
            <a:ext cx="3812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6"/>
          <p:cNvSpPr/>
          <p:nvPr/>
        </p:nvSpPr>
        <p:spPr>
          <a:xfrm>
            <a:off x="2285280" y="36576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18"/>
          <p:cNvSpPr/>
          <p:nvPr/>
        </p:nvSpPr>
        <p:spPr>
          <a:xfrm>
            <a:off x="312408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22860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5812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228600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29718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40384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8098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274320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140 and 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140 and 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2819520" y="2514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iggest Los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The Biggest Loser.mp3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995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ctagon 5"/>
          <p:cNvSpPr/>
          <p:nvPr/>
        </p:nvSpPr>
        <p:spPr>
          <a:xfrm>
            <a:off x="2819520" y="1828800"/>
            <a:ext cx="3657600" cy="30481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65760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562720" y="3657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5562720" y="2590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4876920" y="1828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819520" y="2590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289548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49528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35812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decag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800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67652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5 and 4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ctagon 5"/>
          <p:cNvSpPr/>
          <p:nvPr/>
        </p:nvSpPr>
        <p:spPr>
          <a:xfrm>
            <a:off x="3200400" y="2209680"/>
            <a:ext cx="2362320" cy="22100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rey’s Anat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Greys Anatomy - Full Version.mp3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8715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arallelogram 5"/>
          <p:cNvSpPr/>
          <p:nvPr/>
        </p:nvSpPr>
        <p:spPr>
          <a:xfrm>
            <a:off x="2057400" y="1752480"/>
            <a:ext cx="5105520" cy="2971800"/>
          </a:xfrm>
          <a:prstGeom prst="parallelogram">
            <a:avLst>
              <a:gd name="adj" fmla="val 2499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281952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x+15)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-20)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21337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15)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63868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20 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209680" y="25146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8240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m of the interior and ex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7077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one interio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me that TV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62 and 1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ce Road Truck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Ice Road Trucker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6067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7.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Heptagon 5"/>
          <p:cNvSpPr/>
          <p:nvPr/>
        </p:nvSpPr>
        <p:spPr>
          <a:xfrm>
            <a:off x="2666880" y="1295280"/>
            <a:ext cx="4114800" cy="3657600"/>
          </a:xfrm>
          <a:custGeom>
            <a:avLst/>
            <a:gdLst>
              <a:gd name="textAreaLeft" fmla="*/ 407520 w 4114800"/>
              <a:gd name="textAreaRight" fmla="*/ 3707280 w 4114800"/>
              <a:gd name="textAreaTop" fmla="*/ 724320 h 3657600"/>
              <a:gd name="textAreaBottom" fmla="*/ 2933280 h 3657600"/>
            </a:gdLst>
            <a:ahLst/>
            <a:rect l="textAreaLeft" t="textAreaTop" r="textAreaRight" b="textAreaBottom"/>
            <a:pathLst>
              <a:path w="4114800" h="3657600">
                <a:moveTo>
                  <a:pt x="-11" y="2352227"/>
                </a:moveTo>
                <a:lnTo>
                  <a:pt x="407491" y="724436"/>
                </a:lnTo>
                <a:lnTo>
                  <a:pt x="2057400" y="0"/>
                </a:lnTo>
                <a:lnTo>
                  <a:pt x="3707309" y="724436"/>
                </a:lnTo>
                <a:lnTo>
                  <a:pt x="4114811" y="2352227"/>
                </a:lnTo>
                <a:lnTo>
                  <a:pt x="2973024" y="3657619"/>
                </a:lnTo>
                <a:lnTo>
                  <a:pt x="1141776" y="365761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2004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4100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3434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281952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601992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73392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5029200" y="4495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pt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00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cag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44 and 3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boy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551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7.33333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6"/>
          <p:cNvSpPr/>
          <p:nvPr/>
        </p:nvSpPr>
        <p:spPr>
          <a:xfrm flipV="1">
            <a:off x="2361600" y="175212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8"/>
          <p:cNvSpPr/>
          <p:nvPr/>
        </p:nvSpPr>
        <p:spPr>
          <a:xfrm flipV="1">
            <a:off x="2971800" y="1676160"/>
            <a:ext cx="167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4648320" y="1676520"/>
            <a:ext cx="12189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2"/>
          <p:cNvSpPr/>
          <p:nvPr/>
        </p:nvSpPr>
        <p:spPr>
          <a:xfrm flipH="1">
            <a:off x="3047760" y="335196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14"/>
          <p:cNvSpPr/>
          <p:nvPr/>
        </p:nvSpPr>
        <p:spPr>
          <a:xfrm flipH="1" flipV="1">
            <a:off x="2361960" y="297144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9718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24382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2971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39625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472428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340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8 and 7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Jeopar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eopardy - Think Music - 2009.mp3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922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1-01-05T16:52:10Z</dcterms:modified>
  <cp:revision>8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